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22.jpeg" ContentType="image/jpeg"/>
  <Override PartName="/ppt/media/image17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FF2A-AA3F-467F-8B74-33752B0FC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9593-17F2-4200-99C3-662BEEF18F3C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seizures – don’t mistake ridigity for seiz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12B7-4CE3-4167-9E2C-23F0D7BE5C68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ta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d they take it, important for treatment and dis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, was it a toxic in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, was it a suicide atte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y have allergies, comorbidities – check old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993B-0A0C-47D6-894F-E3C528696FFF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 – caustic ingestions, Lye is sometimes used to make G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– warm, dry, red, sweaty, bruises, track marks, ra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logic – are they moving their extremities, look for any focal paralysis, look glob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uscle rigidity, check their reflexes including their response to pain if alt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A4CC-3AB0-4C42-AE08-7C7404D26D0D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ly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yponatremia – lithium intox from DI, amitript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kalemia – theophylline, B2 agonist, acid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you clues to the ingested substance and helps you prevent dangerous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an anion g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-  BB, caffeine, theophylline -- can cause hyoglyc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ranol, insulin, salcylates – can cause hyperglyc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N/creatinine to evaluate ren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lenol, ethylene glycol, heavy metals (PCP, amphet, cocaine through rhab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FTs – tylenol, arsenic, ethanol, iron, valpr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K – rhabdo, rigidity, arrhythmias -  PCP, cocaine, ampheta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alysis – hemoglobinuria, myoglobinuria, crystallu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drug screen – beware of cross reactivity, ie.  Diphenhydramine, methadone, dextromethorphan can make PCP screen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lality to calculate osmolar gap.  Increased by ethanol, isopropyl alcohol, methanol, mannitol,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AFDD-0FC4-48C7-A03E-5E87746FDC1B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based depending on type of ingestion, amount, time,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U admission for any symptomatic patient or asymptomatic with significant ingestion who may later become sympto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AB8A-F392-430C-98D7-AE54BF1BC17E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 – paralysis, fasiculations, hyporeflex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B35C-3AF1-4293-A452-5708948D6C99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versibly bind cholinesterases – acetylcholine supply increases and you exhaust the postsynaptic neuronal transmission in the CNS and P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arinic – parasympathetic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tinic – gives you muscula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 – physostigmine, neostig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 – antihelmintic, insec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35D4-07B4-4B69-844F-95A8EB417DAE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nita muscaria mush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D56A-D9E6-4E47-9FBF-4C24F32A0939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ostigmine – for CNS effects.  Side effects:  seizures, vomiting, diarrhea, abdominal cr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ions:  tachydysrhythmias with hemodynamic compromise, intractable seizures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e agitation or psychos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indications:  conduction disturbances, prolonged QRS, 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BB7A-21DD-4E90-8080-D2051C636327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– skin, eyes, in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– GI decontamination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F792-DC75-4AA6-A6CB-C9130A4549AB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ic effects – formaldehyde can can acidosis and formate poisoning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fluoric acid can cause hypocalcemia and hyperkal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AA45-246B-41FE-B313-4BB3D5516D27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ophthomalogy invovled early, especially if this is a site threatening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B9E9-D178-4597-B0C8-EBAA66525E5A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/EC ingestions – whole bowel irrigation is preferred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C1F8-884E-4E34-B6C8-B73CEA3BCE1D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ed charchoal – again, no real good evidence to use it, but 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number of reasons:  relatively harm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tical bene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like we’re do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, it is the standard of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DD14-7EB4-4A65-8249-D7F7EF1EE242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artic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ten passage …..  But no evidence that they decrease morbidity or mortality and they can 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t fluid loss and lyte imbalanc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gestions, especially if not adsorbed to charc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0DEB-BB75-4F0F-859B-A0B95EDEA8FB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diuresis can cause fluid over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ization as in salicylate poi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erfusion – similar equipment and access, blood pumped through a column containing an adsorbant material like charc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dependent on molecular size, solubility, and protein binding, achieves greater clearance rates for most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toneal dialysis and hemofiltration – less invasive than above, used for a continuous removal over time in a non-critical pati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 in acute poisonings is uncl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6493-BD51-48E7-B681-FF0AE9338AF2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he patient stable, will supportive care alone enable recovery, is there an antido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ions includ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 route – lithium overdose in a patient with renal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B499-39A4-4B84-A2D2-A630FA0BF053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awake – A’s done, don’t need to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g – use a tongue bl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opharynx – for F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way devices – oral airway, but if you are considering this, the patient should probably be intub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ubation – if the depressed respiratory status is due to opioids or benzodiazepines, these may eliminate the need for intub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34A0-C313-434E-9618-E6435989E886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s – are they breathing 14 times a minutes o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/mask – to support inadequate respirations, as you prepare for intub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dor – Gama hydroxybutyric acid is sometimes made with lye, can cause airway burns and ed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D08F-B912-4233-9447-064151BD85B7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s – decrease challenge with h/o heart failure/renal failure/hepatic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achycardia:  do not give BB alone, you can worsen HTN if it is caused by alpha adrenergic stimulation as with coca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 access:  2 large bore I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F425-50BC-46F4-9B6C-9BDD17EFB271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ey catheter – monitor UOP, obtain urine drug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al temperature – oral temp can be inaccurate, especially in mouth br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or cool as indicated.  Remember you can use paralysis for hyperther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glycemia – get a bedside finger stick or treat empir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amine – if they look malnourished, alcoholic.  It’s not routinely given to children.  Give before sugar to prevent wernicke korsakoff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AED5-7ADC-4C04-A7CC-E1C487BE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7C3-1449-4D3E-AFF4-CAAB3C74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E43-65CE-4156-8F52-BE14296F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088B-82E0-4113-ABEF-FB62C12D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ADD4-3550-4B76-87CD-9314DFCE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237F-81B5-43D6-886C-F8BDAED8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28F4-E535-44F9-936B-1E8133C2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1AE7-CC82-421F-AC51-96DDC627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FE65-ED7E-4B0F-83A8-4CBCD95F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FCD4-6562-4769-9717-B2FE4827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F3DD-BB6A-4C96-AC81-4546930C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449-5B67-44EE-8E48-1DABD307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1E46-47D7-4EEE-B129-7D4BC9D0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126A-0164-46AE-B0F9-6D534E56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3F41-0794-4908-A653-1EE1BBD6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0012-DC68-426A-9BBF-E8C74232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7AD6-F075-4AFE-A125-166BDE74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D19-2790-4F22-BB5B-718FD79B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14CA-8896-40AA-B5A3-EFE173AA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2E4-1846-4A3C-A3A9-7C226969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8AD-156E-4FDF-931C-0A0BE027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A6F-F3AA-4598-8A02-348C9BFD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A05-A8DF-4A66-BA39-158F9E97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33AC-405F-4DD9-B8B1-46797FA1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ccec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8162-04DE-4F43-A7C0-1BD975DD6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B32E-D8B0-4107-BFE4-F9072F07B0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oxicolog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C Emergency Medici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edical Student Lecture Ser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upportive Car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reat Seizures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orazepam 2 mg IV, may repeat as need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lantin 10 mg/kg I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rol agit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aldol 5-10 mg I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tivan 2-4 mg IM or I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eodon 20 mg IM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ink about traum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9933"/>
                </a:solidFill>
                <a:latin typeface="Times New Roman"/>
              </a:rPr>
              <a:t>REASSESS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. . . frequentl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What, when, how much, why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Rx, OTC, herbals, supplements, vitamin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alk to family, friends, EM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ill bottles, needles, beer cans, suicide note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all pharmacy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llergies, medical problems 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hysical ex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ital signs: BP, HR, RR, T, O2 sa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outh: odors, mucous membranes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upi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reath sou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owel sou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ki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rination/defec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Neurologic exam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ssential Laboratory Test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lectrolyt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luco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UN and creatin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FT’s, C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rinalysis, urine drug scre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toh, alcohol scre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erum osmolalit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etaminophen, salicylat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pecific drug leve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egnancy te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ion Ga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a – (HCO3 + Cl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ormal:  8-12 mEq/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uses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than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mi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K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raldehyde, phenform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on, isoniazid, ibuprof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ithium, lactic acidosi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ylene glyc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rychnine, starvation, salicylat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Osmolar Ga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lculated osmolality – measured osmolalit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(Na) + glucose/18 + BUN/2.8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ormal = 285-290 mOsm/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ap &gt; 10 mOsm/L suggests the presence of extra solutes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thanol, methan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thylene glycol, isopropyl alcoh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annitol, glycer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nical Pearl:  Anion gap acidosis with an osmolar gap should suggest methanol or ethylene glycol poiso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ectrocardiogram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Prolonged QR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Phenothiazine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alcium channel blocker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Sinus bradycardia/AV block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Beta-blockers, calcium channel blocker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Digoxin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organophosphate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Ventricular tachycardi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ocaine, amphetamine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hloral hydrat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heophyllin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Digoxin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Picture 4" descr="tcaekg"/>
          <p:cNvPicPr/>
          <p:nvPr/>
        </p:nvPicPr>
        <p:blipFill>
          <a:blip r:embed="rId1"/>
          <a:stretch/>
        </p:blipFill>
        <p:spPr>
          <a:xfrm>
            <a:off x="4724280" y="4448160"/>
            <a:ext cx="4419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iagnosi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May not identify ingested substance(s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rovide ABCs and supportive car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Give antidote when appropriat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all regional poison control cente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arolinas Poison Center, Charlott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800-848-6946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isposi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ase-based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CU admis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eriod of observ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sychiatric evalu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foxglove"/>
          <p:cNvPicPr/>
          <p:nvPr/>
        </p:nvPicPr>
        <p:blipFill>
          <a:blip r:embed="rId1"/>
          <a:stretch/>
        </p:blipFill>
        <p:spPr>
          <a:xfrm>
            <a:off x="6491160" y="0"/>
            <a:ext cx="2652840" cy="2106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westerndiamondback"/>
          <p:cNvPicPr/>
          <p:nvPr/>
        </p:nvPicPr>
        <p:blipFill>
          <a:blip r:embed="rId2"/>
          <a:stretch/>
        </p:blipFill>
        <p:spPr>
          <a:xfrm>
            <a:off x="152280" y="0"/>
            <a:ext cx="2667240" cy="2540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amitriptyline"/>
          <p:cNvPicPr/>
          <p:nvPr/>
        </p:nvPicPr>
        <p:blipFill>
          <a:blip r:embed="rId3"/>
          <a:stretch/>
        </p:blipFill>
        <p:spPr>
          <a:xfrm>
            <a:off x="3276720" y="5105520"/>
            <a:ext cx="1885680" cy="1419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jellyfish"/>
          <p:cNvPicPr/>
          <p:nvPr/>
        </p:nvPicPr>
        <p:blipFill>
          <a:blip r:embed="rId4"/>
          <a:stretch/>
        </p:blipFill>
        <p:spPr>
          <a:xfrm>
            <a:off x="5257800" y="4114800"/>
            <a:ext cx="3657600" cy="254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oleander"/>
          <p:cNvPicPr/>
          <p:nvPr/>
        </p:nvPicPr>
        <p:blipFill>
          <a:blip r:embed="rId5"/>
          <a:stretch/>
        </p:blipFill>
        <p:spPr>
          <a:xfrm>
            <a:off x="6781680" y="243828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opiates2"/>
          <p:cNvPicPr/>
          <p:nvPr/>
        </p:nvPicPr>
        <p:blipFill>
          <a:blip r:embed="rId6"/>
          <a:stretch/>
        </p:blipFill>
        <p:spPr>
          <a:xfrm>
            <a:off x="3124080" y="152280"/>
            <a:ext cx="142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sarinnervegas"/>
          <p:cNvPicPr/>
          <p:nvPr/>
        </p:nvPicPr>
        <p:blipFill>
          <a:blip r:embed="rId7"/>
          <a:stretch/>
        </p:blipFill>
        <p:spPr>
          <a:xfrm>
            <a:off x="4800600" y="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clitocybe_dealbata"/>
          <p:cNvPicPr/>
          <p:nvPr/>
        </p:nvPicPr>
        <p:blipFill>
          <a:blip r:embed="rId8"/>
          <a:stretch/>
        </p:blipFill>
        <p:spPr>
          <a:xfrm>
            <a:off x="2209680" y="2895480"/>
            <a:ext cx="1600200" cy="1308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ethyleneglycol"/>
          <p:cNvPicPr/>
          <p:nvPr/>
        </p:nvPicPr>
        <p:blipFill>
          <a:blip r:embed="rId9"/>
          <a:stretch/>
        </p:blipFill>
        <p:spPr>
          <a:xfrm>
            <a:off x="3886200" y="2209680"/>
            <a:ext cx="2419200" cy="2419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scorpion"/>
          <p:cNvPicPr/>
          <p:nvPr/>
        </p:nvPicPr>
        <p:blipFill>
          <a:blip r:embed="rId10"/>
          <a:stretch/>
        </p:blipFill>
        <p:spPr>
          <a:xfrm>
            <a:off x="228600" y="4572000"/>
            <a:ext cx="2895480" cy="205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tylenol"/>
          <p:cNvPicPr/>
          <p:nvPr/>
        </p:nvPicPr>
        <p:blipFill>
          <a:blip r:embed="rId11"/>
          <a:stretch/>
        </p:blipFill>
        <p:spPr>
          <a:xfrm>
            <a:off x="152280" y="2590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Toxidrome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holinergic Toxidrom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51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arrhea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        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liv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ination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crim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osi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in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adycardia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efec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onchospasm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 upset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mesi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mesis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crim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mp  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livation, sweating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holinergic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28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Organophosphat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Irreversibly bind cholinesterase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arbama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Reversibly bind cholinesterases, poor CNS penetra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uscarinic and nicotinic effec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esticides, nerve agen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ilitary personnel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Field workers, crop duster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Truckers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est control, custodial worker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do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tropine for muscarinic effec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alidoxime reverses phosphorylation of cholinesteras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ticholinergics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trop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copolam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Glycopyrrola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Benztrop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spasmotic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Dicyclo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oscya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Oxybutyni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lidiniu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ydriatic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33520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histamin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hlorphenira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yproheptad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droxy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Diphenhydra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ecli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rometha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psychotic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lozap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Olanzap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Thiorida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Jimson we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nticholinergic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oxidrom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6858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ry mucus membranes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ry as a bon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ntal status chang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d as a hatter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lushed sk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d as a beet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ydria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lind as a bat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e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t as a har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achycar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perten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creased bowel soun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rinary reten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eizure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tax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3" name="Picture 4" descr="amanitamuscaria"/>
          <p:cNvPicPr/>
          <p:nvPr/>
        </p:nvPicPr>
        <p:blipFill>
          <a:blip r:embed="rId1"/>
          <a:stretch/>
        </p:blipFill>
        <p:spPr>
          <a:xfrm>
            <a:off x="6477120" y="3581280"/>
            <a:ext cx="223812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oxidrom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Opioid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Respiratory depress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iosi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poactive bowel sound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ympathomimetic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pertens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Tachycardi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perpyrexi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ydriasi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Anxiety, deliriu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ff00"/>
                </a:solidFill>
                <a:uFillTx/>
                <a:latin typeface="Times New Roman"/>
              </a:rPr>
              <a:t>Clinical Pearl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:  Sweating differentiates sympathomimetic  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and anticholinergic toxidrome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tidote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etaminophe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-acetylcyste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ganophosphate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      Atropine, pralidoxim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nticholinergic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hysostigm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rsenic, mercury, gold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mercapro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enzodiazepine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lumazeni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eta blocker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lucag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lcium channel block       calci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rboxyhemoglob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00% O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yanid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itrite, Na thiosulfat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gox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goxin antibodies                       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tidot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thylene glycol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omepizole, H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par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otam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ro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feroxam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soniazid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yridoxi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hanol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omepizole, H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hemoglob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hylene blu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pioid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aloxo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alicylat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kalinization, H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CA’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odium bicarbonat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arfar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FP, vitamin 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Decontaminatio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Principles of Decontaminatio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494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otect yourself and oth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move exposu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Irrigate copiously with water or normal sa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Don’t forget your ABC’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atient must be fully awake or intubat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ost common complication is aspir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Very little evidence for their us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General approach to the poisoned patien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oxidrom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pecific antidot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econtamination and enhanced elimin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cont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4632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ki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otect yourself and other HC work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move cloth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Flush with water or normal sa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Use soap and water if oily substanc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hemical neutralization can potentiate injur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orrosive agents injure skin and can have systemic effec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6" name="Picture 4" descr="decontamination2"/>
          <p:cNvPicPr/>
          <p:nvPr/>
        </p:nvPicPr>
        <p:blipFill>
          <a:blip r:embed="rId1"/>
          <a:stretch/>
        </p:blipFill>
        <p:spPr>
          <a:xfrm>
            <a:off x="6553080" y="1676520"/>
            <a:ext cx="22939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cont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Ey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move contact le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lush copiously with water or normal sali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se local anesthetic dr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inue irrigation until pH is norma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lit lamp and fluorescein exam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contaminatio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nhal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ive supplemental humidified oxyg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Observe for airway obstruc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tubate as necessar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I Decontaminatio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yrup of ipecac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Within minutes of inges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Aspiration, gastritis, Mallory-Weiss tear, drowsines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Rarely, if ever, given in ED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Gastric lavag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Does not reliably remove pills and pill fragment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Used 30-60 minutes after inges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Useful after caustic liquid ingestion prior to endoscop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Not used for sustained release/enteric coated ingestion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erforation, nosebleed, vomiting, aspira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Recent studies suggest that activated charcoal alone is just as effective as gut emptying followed by charcoal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I Decontaminatio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ctivated charcoa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mits drug absorption in the GI tra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ithin 60 minutes of inges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atient must be awake or intubat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omiting, aspiration, bezoar form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raindication: bowel obstruction or ileus with disten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1 gram/kg PO or G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tivated Charcoa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good for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ithi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coho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ea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drocarb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ustic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3028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I Decont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athartic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Hasten passage of ingestions or AC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Contraindications: obstruction or ileu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Severe fluid loss, hypernatremia, hyperosmolarity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10% magnesium citrate 3ml/kg or 70% sorbitol 1-2 …./kg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hole bowel irrig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Large ingestions, SR or EC tablets, packers (ex. cocaine)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Contraindications:  obstruction or ileu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Aspiration, nausea, may decrease effectiveness of charcoal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nhanced Eli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rinary manipul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orced diure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kalinization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peat-dose activated charcoa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Very large ingestions of toxic substa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ustained release and enteric coated prepar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arbamazepine, phenobarbital, phenyto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alicylate, theophylline, digitox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emodialysis, Hemoperfu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eritoneal dialysis, Hemofilt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nhanced Eli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oes the patient need it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evere intoxication with a deteriorating condition despite maximal supportive car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sual route of elimination is impair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A known lethal dose or lethal blood leve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derlying medical conditions that can increase complic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pecific Toxi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cetominoph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alicylat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ricyclic Antidepressants (TCA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eneral Approach 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BC’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Histor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hysical examin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bs, imagi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agnosis, antidote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sposition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etominophen (apap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476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ax dose: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4g/day adult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90 mg/kg day ki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eak serum levels: 4 hours after overdo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hat are the three methods of APAP metabolism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lucuronidation (90% normal thru pathw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ulfonation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450 mixed oxidase enzymes (5% nl thru pathw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8" name="Picture 5" descr="tylenol-now"/>
          <p:cNvPicPr/>
          <p:nvPr/>
        </p:nvPicPr>
        <p:blipFill>
          <a:blip r:embed="rId1"/>
          <a:stretch/>
        </p:blipFill>
        <p:spPr>
          <a:xfrm>
            <a:off x="7924680" y="304920"/>
            <a:ext cx="898560" cy="17524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2514600" y="1600200"/>
            <a:ext cx="44326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75"/>
                </a:solidFill>
                <a:latin typeface="Tahoma"/>
              </a:rPr>
              <a:t>Magic number to remember is 140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etominophen (apap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oxicit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140mg/kg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 acute inges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rect hepatocellular toxicity with centrolobular distribution (hepatic vein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an also have renal damage and pancreatiti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tages of Tylenol Toxicit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 (0-24hrs): n/v, but most asymptomatic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I latent stage (24-48hrs): subclinical increase in ast/alt/bil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II hepatic stage (3-4dys): liver failure, ruq pain, vomiting, jaundice, coagulopathy, hypoglycemia, renal failure, metabolic acidosi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V recovery stage (4dys-2wks): resolution of hepatic dysfunc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Need 4 hour level and</a:t>
            </a:r>
            <a:br>
              <a:rPr sz="4400"/>
            </a:b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N-acetylcysteine (NAC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Dx: 4 hour level compared to the Rumack and Matthews nomogra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150ug/ml at 4 hou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x: NAC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140mg/kg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then 70mg/kg every 4 hours for 17 dos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We Have PO and IV dos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Only useful for one time ingestion (not chronic ingestion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3028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7" name="Picture 7" descr="acetadote2"/>
          <p:cNvPicPr/>
          <p:nvPr/>
        </p:nvPicPr>
        <p:blipFill>
          <a:blip r:embed="rId1"/>
          <a:stretch/>
        </p:blipFill>
        <p:spPr>
          <a:xfrm>
            <a:off x="6095880" y="2743200"/>
            <a:ext cx="2587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etominophen (apap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f time of ingestion unknown, draw level immediately and again at 2-4 hours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bs: LFTs, coags, lytes, aspirin, ETOH,  tox scre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NAC indicatio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ngestions with potential toxicit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te presentations with potential or ongoing toxicit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hronic overdose with evidence of hepatic damag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ylenol Overdose Disposi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dmit if….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nown toxicity / potential toxic leve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ab evidence of hepatic damag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known time of ingestion and sx consistent with toxicit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known ingestion time with measurable acetaminophen level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alicylates (asa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eak acid, rapidly absorb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nteric coated has delayed absorp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oxic dose: 160 mg/k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ethal dose 480 mg/k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ixed respiratory alkalosis-metabolic acido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timulates respiratory drive causing hyperventilation, but limits ATP production</a:t>
            </a:r>
            <a:r>
              <a:rPr b="0" lang="en-US" sz="24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metabolic acido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Oil of wintergreen, 1ml = 1400m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6" name="Picture 5" descr="aspirin"/>
          <p:cNvPicPr/>
          <p:nvPr/>
        </p:nvPicPr>
        <p:blipFill>
          <a:blip r:embed="rId1"/>
          <a:stretch/>
        </p:blipFill>
        <p:spPr>
          <a:xfrm>
            <a:off x="6934320" y="380880"/>
            <a:ext cx="1704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alicylates Symptom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achypnea, tachycardia, hypertherm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Resp alkalosis-metabolic acido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tered serum gluco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G metabolic acidosis (MUDPILE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hydration (vomiting, tachypnea, sweatin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564160" y="190512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bd pain/n/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innitus, hearing lo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ethargy, seizures, altered mental statu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oncardiogenic pulmonary edem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2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valuation of ASA Overdos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4419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tes, ABG, LFTs, CBC, preg.test, urine P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erum salicylate levels (toxicity at 25mg/dl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oxicity correlates POORLY with leve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valuation with DONE nomegram based on single ingestion of regular ASA at levels drawn 6 hrs after inges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nderestimates toxicity in cases of severe acidemia or chronic inges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12" name="Picture 5" descr="poisoning-image13"/>
          <p:cNvPicPr/>
          <p:nvPr/>
        </p:nvPicPr>
        <p:blipFill>
          <a:blip r:embed="rId1"/>
          <a:stretch/>
        </p:blipFill>
        <p:spPr>
          <a:xfrm>
            <a:off x="6324480" y="1066680"/>
            <a:ext cx="2624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Times New Roman"/>
              </a:rPr>
              <a:t>ABC</a:t>
            </a:r>
            <a:r>
              <a:rPr b="0" lang="en-US" sz="12000" spc="-1" strike="noStrike">
                <a:solidFill>
                  <a:srgbClr val="ccecff"/>
                </a:solidFill>
                <a:latin typeface="Times New Roman"/>
              </a:rPr>
              <a:t>’s</a:t>
            </a:r>
            <a:endParaRPr b="0" lang="en-US" sz="1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rapy for ASA Overdos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BC’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tivated charco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rinary alkalinization (start if serum level is greater than 35mg/dl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3 amps bicarbinate in 1 L D5W at 150 ml/h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y increasing urinary pH to greater than 8, ASA gets trapped in tubes and cannot be reabsorb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alysis for severe acidemia, volume overload, pulmonary edema, cardiac or renal failure, seizures, coma, levels &gt; 100mg/dl in acute ingestion, or &gt; 60-80 mg/dl in chronic inges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isposion for ASA Overdos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t gets charcoal and remain asymptomatic after 6-8 hours = Possible D/C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ustained release requires longer observation perio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ts with toxic levels, symptomatic, or develop symptoms = Admis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61048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CA (Tricyclic Antidepressants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eading cause of death by intentional overdo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locks sodium channe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ath by cardiovascular dysrhythymias and cardiovascular collap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ost TCA’s have anticholinergic effect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ry skin, blurry vision, ho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evere OD: hypotension, seizures, respiratory depres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 severe cases: ARDS, rhabdomyolisis, DIC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ET AN EK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4760" y="4952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What do you see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21" name="Picture 9" descr="http://www.jacobi-em.com/photogallery/photo00000645/TCA%20ekg2.JPG"/>
          <p:cNvPicPr/>
          <p:nvPr/>
        </p:nvPicPr>
        <p:blipFill>
          <a:blip r:embed="rId1"/>
          <a:stretch/>
        </p:blipFill>
        <p:spPr>
          <a:xfrm>
            <a:off x="2209680" y="1676520"/>
            <a:ext cx="6243840" cy="32288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0"/>
          <p:cNvSpPr/>
          <p:nvPr/>
        </p:nvSpPr>
        <p:spPr>
          <a:xfrm>
            <a:off x="1981080" y="5562720"/>
            <a:ext cx="124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rolonged QRS, sinus tachycardia, “tall R in R” – tall R wave in lead aVR 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reatment of TCA Overdos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odium Bicarbinate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itial bolus of 2 am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rip 3 amps in 1 L D5W at 150 ml/h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itrate for serum pH of 7.45-7.5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V fluid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idocaine for perisistent arrhythymia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VOID Class Ia drugs (procainimide quinidine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ank You!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Any Questions?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eferences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isoning &amp; Drug Overdos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, California Poison Control System.  KR Olson, 3</a:t>
            </a:r>
            <a:r>
              <a:rPr b="0" lang="en-US" sz="2800" spc="-1" strike="noStrike" baseline="30000">
                <a:solidFill>
                  <a:srgbClr val="ccecff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dition, Appleton &amp; Lange, 1999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Emergency Medicine Board Review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Serie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.  L Stead, Lippincott Williams &amp; Wilkins, 2000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Emergency Medicine, A comprehensiv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study guid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.  Tintinalli, 6</a:t>
            </a:r>
            <a:r>
              <a:rPr b="0" lang="en-US" sz="2800" spc="-1" strike="noStrike" baseline="30000">
                <a:solidFill>
                  <a:srgbClr val="ccec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dition, McGraw Hill, 2004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rwa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43200" y="1752480"/>
            <a:ext cx="73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irway obstruction can cause death after poiso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Flaccid tong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spir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spiratory arre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valuate mental status and gag/cough reflex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irway interventions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niffing posi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Jaw thru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Head-down, left-sided posi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xamine the oropharynx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lear secretion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irway devices:  nasal trumpet, oral airway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ntubatio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onsider naloxone fir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4" name="Picture 1029" descr="vocalcords"/>
          <p:cNvPicPr/>
          <p:nvPr/>
        </p:nvPicPr>
        <p:blipFill>
          <a:blip r:embed="rId1"/>
          <a:stretch/>
        </p:blipFill>
        <p:spPr>
          <a:xfrm>
            <a:off x="6324480" y="304920"/>
            <a:ext cx="129564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eathin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4120" y="1905120"/>
            <a:ext cx="617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termine if respirations are adequat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ive supplemental oxyg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ssist with bag-valve-mas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heck oxygen saturation, AB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uscultate lung fiel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Bronchospasm: Albuterol nebuliz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Bronchorrhea/rales: Atrop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tridor: Determine need for immediate intub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rcul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V access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btain blood 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asure blood pressure, pul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potension treatment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Normal saline fluid challenge, 20 mL/k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Vasopressors if still hypotensiv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BC’s if bleeding or anemic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pertension treatment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Nitroprusside, beta blocker, or nitroglycer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ontinuous ECG monitor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ssess for arrhythmias, treat accordingl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9" name="Picture 4" descr="circulation"/>
          <p:cNvPicPr/>
          <p:nvPr/>
        </p:nvPicPr>
        <p:blipFill>
          <a:blip r:embed="rId1"/>
          <a:stretch/>
        </p:blipFill>
        <p:spPr>
          <a:xfrm>
            <a:off x="7315200" y="304920"/>
            <a:ext cx="1390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upportive Car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ley catheter 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Rectal temperatur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ccucheck, treat hypoglyemi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oma cocktai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iamine: 100 mg IV, </a:t>
            </a: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dextro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xtrose: 50 grams IV pus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Naloxone: 0.01 mg/kg IV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22:15:56Z</dcterms:created>
  <dc:creator> </dc:creator>
  <dc:description/>
  <dc:language>en-US</dc:language>
  <cp:lastModifiedBy>Steinhart Rachel</cp:lastModifiedBy>
  <dcterms:modified xsi:type="dcterms:W3CDTF">2008-12-23T04:09:09Z</dcterms:modified>
  <cp:revision>67</cp:revision>
  <dc:subject/>
  <dc:title>Poisoning: An Overview</dc:title>
</cp:coreProperties>
</file>